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84463-42B3-484F-9EC0-A8B3F9586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494F7-4DE8-4EC9-A418-66A539CFF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D11CA-BAD0-4971-B1C3-936EBC705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20B9E-7E25-487C-9647-6039B7840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12BCE-11D0-4FC4-A5D2-717E167FF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BA5C2-E49E-433A-861B-3544B8F58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0C6BC-0389-4171-B4FE-A726DA0A7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AAF6B-5A9E-4916-946F-3243F9C36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789D0-09E1-443C-8082-48AEACE1C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E2EF1-87FA-40DB-A75E-3DCB6E16C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D11BC-6394-48E2-9E04-2EC2B2C7F5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F4F38-24BB-4D6A-9E44-53BB67CEF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21975-0265-4D26-A4D0-1A5BF1FFB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BB80C-D9D7-47D8-8F6E-1B5ED1DE4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517A4-E9E7-4FD1-ADB5-82D794CB2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AE8B2-62D3-441A-ACF0-5E37B4B6C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4D427-FE22-48A7-8244-D017CC592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8A4EC-5AAB-4616-B547-B3C4FAF3E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B2DD0-325A-4FFC-A2D1-9725707AF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7F0D1-514C-4DC2-8037-FEF66B761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0923B-990D-4921-99B3-A847FC96F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68C9B-C9FA-4CA9-A1AC-2BE194A18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9A681-8F73-49C8-BFBF-143E01DA1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B2F9F-5C5E-43AF-8EE0-B628FCE17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06A8-43AE-4323-8B4E-C98A658D8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EB20-C610-4E30-B42B-DB7309AEC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A62B-0CF2-4E23-8417-2B7910082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7A69-D71E-471B-BF74-928FDD39E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6DE5A-4602-4A7F-96AE-008C419C5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51DC1-6BED-4EC5-8CC0-848BC17D3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B5509-0287-4E85-8A09-F491908AA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7E04E-5377-488E-8ED0-2F32AE056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97FA4-4612-4825-BB37-9244BD2F2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C0442-EE49-43C2-94F1-8D8E8568D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A68E9-F2DD-46D1-BB53-22C275B7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9E99-FBF2-4DBA-AEF1-86C0DDB66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52A63-1A72-4E84-BBD5-2F58ABCB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A9B98-94A2-4856-8C07-D3FD2015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4F0D0-0656-4BCB-BE95-F9012B6BD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0077D-7F6A-4053-AA30-94B1C26D1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E64F1-C0FE-4175-BF55-C339EDE8D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F4270-7BF5-4324-A886-F431C64BA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7B09A-5010-45AF-8DA8-0D2496469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17A32-DE13-4762-AFB2-681DE9683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0A874-B915-4A76-9150-DEAAD8680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EF526-AD07-4FFE-856B-984058C6C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D13C-7CAF-4CD9-802E-5BB5C89DF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28373-DA4D-4604-B4AD-F0F683A20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55AFE-01BA-4575-BD1F-4E847DFA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7A48F-C42D-4B75-AD4E-2A5CF29B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94B99-A2EF-41EA-86A8-F764E8B5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26F81-DA99-44B2-B78F-E73ABF5A7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6214A-3BAE-4BB9-BDBE-E0CD0A1DE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B7800-2EF3-40F7-A05A-3FA9137D2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B842-DFE0-449E-94A4-3EB8D0FE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0EF5-5415-4496-ABA8-534CA03F5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8DA6-828D-430E-A9BF-3E7053479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4A5F-F2B9-43D9-B55A-925B71E2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FB5D-AFFE-47BA-A1F9-D2A7DBE7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5EC9-D874-436C-82BD-FBB71C86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CB905-E6C6-4A4A-9FAC-A6D3ADB38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42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3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6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9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52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53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56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57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60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63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66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69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72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75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78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81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84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87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90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93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96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99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02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05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08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11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14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17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22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25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28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31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34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37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40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43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46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49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52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4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Arc 122"/>
              <p:cNvSpPr/>
              <p:nvPr/>
            </p:nvSpPr>
            <p:spPr>
              <a:xfrm>
                <a:off x="7813080" y="765720"/>
                <a:ext cx="51552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Arc 123"/>
              <p:cNvSpPr/>
              <p:nvPr/>
            </p:nvSpPr>
            <p:spPr>
              <a:xfrm>
                <a:off x="7858800" y="605880"/>
                <a:ext cx="73152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Arc 128"/>
              <p:cNvSpPr/>
              <p:nvPr/>
            </p:nvSpPr>
            <p:spPr>
              <a:xfrm>
                <a:off x="7722360" y="657000"/>
                <a:ext cx="391320" cy="11829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B0A1B-37D5-416B-A101-BFDEECDD1270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218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219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Oval 5"/>
              <p:cNvSpPr/>
              <p:nvPr/>
            </p:nvSpPr>
            <p:spPr>
              <a:xfrm>
                <a:off x="3823920" y="1264320"/>
                <a:ext cx="22752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222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23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24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27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28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31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3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34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6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37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40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2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43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5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46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49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1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52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55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58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61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64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67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70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73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76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79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82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4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85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7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88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0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92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93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5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96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99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02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05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08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11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3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14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17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20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23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25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326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327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4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5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336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Arc 124"/>
              <p:cNvSpPr/>
              <p:nvPr/>
            </p:nvSpPr>
            <p:spPr>
              <a:xfrm flipH="1">
                <a:off x="2343600" y="1739160"/>
                <a:ext cx="2930760" cy="2933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Arc 125"/>
              <p:cNvSpPr/>
              <p:nvPr/>
            </p:nvSpPr>
            <p:spPr>
              <a:xfrm>
                <a:off x="5588640" y="2152080"/>
                <a:ext cx="46980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Arc 126"/>
              <p:cNvSpPr/>
              <p:nvPr/>
            </p:nvSpPr>
            <p:spPr>
              <a:xfrm>
                <a:off x="5711760" y="2138400"/>
                <a:ext cx="1238040" cy="29340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127"/>
              <p:cNvSpPr/>
              <p:nvPr/>
            </p:nvSpPr>
            <p:spPr>
              <a:xfrm>
                <a:off x="6157080" y="354852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128"/>
              <p:cNvSpPr/>
              <p:nvPr/>
            </p:nvSpPr>
            <p:spPr>
              <a:xfrm flipV="1" rot="19660800">
                <a:off x="5225400" y="2949840"/>
                <a:ext cx="54468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129"/>
              <p:cNvSpPr/>
              <p:nvPr/>
            </p:nvSpPr>
            <p:spPr>
              <a:xfrm flipH="1">
                <a:off x="2688120" y="3386880"/>
                <a:ext cx="133848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131"/>
              <p:cNvSpPr/>
              <p:nvPr/>
            </p:nvSpPr>
            <p:spPr>
              <a:xfrm>
                <a:off x="7513920" y="3110400"/>
                <a:ext cx="1242000" cy="19746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133"/>
              <p:cNvSpPr/>
              <p:nvPr/>
            </p:nvSpPr>
            <p:spPr>
              <a:xfrm>
                <a:off x="6937920" y="714240"/>
                <a:ext cx="817560" cy="1768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134"/>
              <p:cNvSpPr/>
              <p:nvPr/>
            </p:nvSpPr>
            <p:spPr>
              <a:xfrm flipH="1" rot="1347000">
                <a:off x="4184640" y="2156040"/>
                <a:ext cx="54504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A02BA-4315-4504-A658-1DE368D9CE2E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4.xml"/><Relationship Id="rId12" Type="http://schemas.openxmlformats.org/officeDocument/2006/relationships/slide" Target="slide16.xml"/><Relationship Id="rId13" Type="http://schemas.openxmlformats.org/officeDocument/2006/relationships/slide" Target="slide17.xml"/><Relationship Id="rId14" Type="http://schemas.openxmlformats.org/officeDocument/2006/relationships/slide" Target="slide15.xml"/><Relationship Id="rId15" Type="http://schemas.openxmlformats.org/officeDocument/2006/relationships/slide" Target="slide13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slide20.xml"/><Relationship Id="rId19" Type="http://schemas.openxmlformats.org/officeDocument/2006/relationships/slide" Target="slide21.xml"/><Relationship Id="rId20" Type="http://schemas.openxmlformats.org/officeDocument/2006/relationships/slide" Target="slide22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28.xml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WordArt 4"/>
          <p:cNvSpPr txBox="1"/>
          <p:nvPr/>
        </p:nvSpPr>
        <p:spPr>
          <a:xfrm>
            <a:off x="304920" y="685800"/>
            <a:ext cx="8562960" cy="27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cap="rnd" w="22320">
                  <a:solidFill>
                    <a:srgbClr val="ff9900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33ccff"/>
                    </a:gs>
                    <a:gs pos="100000">
                      <a:srgbClr val="0099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Harrington"/>
              </a:rPr>
              <a:t>Napata and  Meroe</a:t>
            </a:r>
            <a:endParaRPr b="1" i="1" lang="en-US" sz="8000" spc="1" strike="noStrike">
              <a:ln cap="rnd" w="22320">
                <a:solidFill>
                  <a:srgbClr val="ff9900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33ccff"/>
                  </a:gs>
                  <a:gs pos="100000">
                    <a:srgbClr val="0099ff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Harrington"/>
              <a:ea typeface="Harrington"/>
            </a:endParaRPr>
          </a:p>
        </p:txBody>
      </p:sp>
      <p:sp>
        <p:nvSpPr>
          <p:cNvPr id="399" name="WordArt 5"/>
          <p:cNvSpPr txBox="1"/>
          <p:nvPr/>
        </p:nvSpPr>
        <p:spPr>
          <a:xfrm>
            <a:off x="2590920" y="2971800"/>
            <a:ext cx="4076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cap="rnd" w="6480">
                  <a:solidFill>
                    <a:srgbClr val="ff9900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33ccff"/>
                    </a:gs>
                    <a:gs pos="100000">
                      <a:srgbClr val="0099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Harrington"/>
              </a:rPr>
              <a:t>Ancient Nubian Capitals</a:t>
            </a:r>
            <a:endParaRPr b="1" i="1" lang="en-US" sz="1800" spc="1" strike="noStrike">
              <a:ln cap="rnd" w="6480">
                <a:solidFill>
                  <a:srgbClr val="ff9900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33ccff"/>
                  </a:gs>
                  <a:gs pos="100000">
                    <a:srgbClr val="0099ff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Harrington"/>
              <a:ea typeface="Harrington"/>
            </a:endParaRP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pat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4">
            <a:hlinkClick r:id="rId2" action="ppaction://hlinksldjump"/>
          </p:cNvPr>
          <p:cNvSpPr/>
          <p:nvPr/>
        </p:nvSpPr>
        <p:spPr>
          <a:xfrm>
            <a:off x="716292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cc00cc"/>
              </a:gs>
              <a:gs pos="100000">
                <a:srgbClr val="66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3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tween which two cataracts on the Nile was Napata loc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B: It’s not on the N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: 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: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3"/>
          <p:cNvSpPr/>
          <p:nvPr/>
        </p:nvSpPr>
        <p:spPr>
          <a:xfrm>
            <a:off x="380880" y="21337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6" dur="5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0" dur="500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4" dur="500"/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/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pata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4">
            <a:hlinkClick r:id="rId2" action="ppaction://hlinksldjump"/>
          </p:cNvPr>
          <p:cNvSpPr/>
          <p:nvPr/>
        </p:nvSpPr>
        <p:spPr>
          <a:xfrm>
            <a:off x="716292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cc00cc"/>
              </a:gs>
              <a:gs pos="100000">
                <a:srgbClr val="66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what year were the Napatan kings forced out of Egyp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1645  B: about 660 B.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: last year  D: about 760 B.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9"/>
          <p:cNvSpPr/>
          <p:nvPr/>
        </p:nvSpPr>
        <p:spPr>
          <a:xfrm>
            <a:off x="838080" y="2544120"/>
            <a:ext cx="7467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B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0" dur="5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4" dur="500"/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/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8" dur="500"/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/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pata 500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s Napata a Nubian capital before or after Mero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4">
            <a:hlinkClick r:id="rId2" action="ppaction://hlinksldjump"/>
          </p:cNvPr>
          <p:cNvSpPr/>
          <p:nvPr/>
        </p:nvSpPr>
        <p:spPr>
          <a:xfrm>
            <a:off x="716292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cc00cc"/>
              </a:gs>
              <a:gs pos="100000">
                <a:srgbClr val="66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7"/>
          <p:cNvSpPr/>
          <p:nvPr/>
        </p:nvSpPr>
        <p:spPr>
          <a:xfrm>
            <a:off x="838080" y="2544120"/>
            <a:ext cx="7467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Befor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0" dur="5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bian Women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e or Fal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bian Women held a very high stat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AutoShape 4"/>
          <p:cNvGrpSpPr/>
          <p:nvPr/>
        </p:nvGrpSpPr>
        <p:grpSpPr>
          <a:xfrm>
            <a:off x="7156440" y="298440"/>
            <a:ext cx="1311120" cy="853920"/>
            <a:chOff x="7156440" y="298440"/>
            <a:chExt cx="1311120" cy="853920"/>
          </a:xfrm>
        </p:grpSpPr>
        <p:pic>
          <p:nvPicPr>
            <p:cNvPr id="498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156440" y="298440"/>
              <a:ext cx="13111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"/>
            <p:cNvSpPr/>
            <p:nvPr/>
          </p:nvSpPr>
          <p:spPr>
            <a:xfrm>
              <a:off x="7162920" y="304920"/>
              <a:ext cx="1295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Text Box 8"/>
          <p:cNvSpPr/>
          <p:nvPr/>
        </p:nvSpPr>
        <p:spPr>
          <a:xfrm>
            <a:off x="914400" y="2348280"/>
            <a:ext cx="746748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Tru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6" dur="5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0" dur="500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bian Women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queens of Nubia had very powerful figures in 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ancient artwork B: the Nubian gy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: the eyes of priests D: ancient s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AutoShape 4"/>
          <p:cNvGrpSpPr/>
          <p:nvPr/>
        </p:nvGrpSpPr>
        <p:grpSpPr>
          <a:xfrm>
            <a:off x="7162920" y="304920"/>
            <a:ext cx="1311120" cy="853920"/>
            <a:chOff x="7162920" y="304920"/>
            <a:chExt cx="1311120" cy="853920"/>
          </a:xfrm>
        </p:grpSpPr>
        <p:pic>
          <p:nvPicPr>
            <p:cNvPr id="504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162920" y="304920"/>
              <a:ext cx="13111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5" name=""/>
            <p:cNvSpPr/>
            <p:nvPr/>
          </p:nvSpPr>
          <p:spPr>
            <a:xfrm>
              <a:off x="7169040" y="31104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Text Box 8"/>
          <p:cNvSpPr/>
          <p:nvPr/>
        </p:nvSpPr>
        <p:spPr>
          <a:xfrm>
            <a:off x="838080" y="2544120"/>
            <a:ext cx="7467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7" dur="5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1" dur="500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5" dur="500"/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/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bian Women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bia had many more women as rulers when compared to 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goes in the blan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Mr. Domyan B: Morgan’s sh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: Egypt  D: Mer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AutoShape 4"/>
          <p:cNvGrpSpPr/>
          <p:nvPr/>
        </p:nvGrpSpPr>
        <p:grpSpPr>
          <a:xfrm>
            <a:off x="7156440" y="298440"/>
            <a:ext cx="1311120" cy="853920"/>
            <a:chOff x="7156440" y="298440"/>
            <a:chExt cx="1311120" cy="853920"/>
          </a:xfrm>
        </p:grpSpPr>
        <p:pic>
          <p:nvPicPr>
            <p:cNvPr id="510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156440" y="298440"/>
              <a:ext cx="13111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" name=""/>
            <p:cNvSpPr/>
            <p:nvPr/>
          </p:nvSpPr>
          <p:spPr>
            <a:xfrm>
              <a:off x="7162920" y="304920"/>
              <a:ext cx="1295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" name="Rectangle 3"/>
          <p:cNvSpPr/>
          <p:nvPr/>
        </p:nvSpPr>
        <p:spPr>
          <a:xfrm>
            <a:off x="457200" y="2438280"/>
            <a:ext cx="8229600" cy="27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C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2" dur="5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6" dur="500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0" dur="500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4" dur="500"/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/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bian Women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royalty, who was most often next in line for the thr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Miss Snow B: children of the ruler’s si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: the ruler’s children D: Gwy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AutoShape 4"/>
          <p:cNvGrpSpPr/>
          <p:nvPr/>
        </p:nvGrpSpPr>
        <p:grpSpPr>
          <a:xfrm>
            <a:off x="7156440" y="298440"/>
            <a:ext cx="1311120" cy="853920"/>
            <a:chOff x="7156440" y="298440"/>
            <a:chExt cx="1311120" cy="853920"/>
          </a:xfrm>
        </p:grpSpPr>
        <p:pic>
          <p:nvPicPr>
            <p:cNvPr id="516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156440" y="298440"/>
              <a:ext cx="13111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"/>
            <p:cNvSpPr/>
            <p:nvPr/>
          </p:nvSpPr>
          <p:spPr>
            <a:xfrm>
              <a:off x="7162920" y="304920"/>
              <a:ext cx="1295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" name="Text Box 8"/>
          <p:cNvSpPr/>
          <p:nvPr/>
        </p:nvSpPr>
        <p:spPr>
          <a:xfrm>
            <a:off x="838080" y="2208960"/>
            <a:ext cx="7467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B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1" dur="5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5" dur="500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9" dur="500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bian Women 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did Nubian queens’ weight reflect their wealth and ran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If they were heavy then they had a lot of money to feed themsel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: It didn’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: They could wear plus size clo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: All women were plump at that time; queens had to have been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AutoShape 4"/>
          <p:cNvGrpSpPr/>
          <p:nvPr/>
        </p:nvGrpSpPr>
        <p:grpSpPr>
          <a:xfrm>
            <a:off x="7156440" y="298440"/>
            <a:ext cx="1311120" cy="853920"/>
            <a:chOff x="7156440" y="298440"/>
            <a:chExt cx="1311120" cy="853920"/>
          </a:xfrm>
        </p:grpSpPr>
        <p:pic>
          <p:nvPicPr>
            <p:cNvPr id="522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156440" y="298440"/>
              <a:ext cx="13111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>
              <a:off x="7162920" y="304920"/>
              <a:ext cx="1295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Rectangle 3"/>
          <p:cNvSpPr/>
          <p:nvPr/>
        </p:nvSpPr>
        <p:spPr>
          <a:xfrm>
            <a:off x="533520" y="21337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6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0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4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8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2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roe Hieroglyphics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e or Fal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eroe Hieroglyphics remain an unsolved myst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28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Text Box 8"/>
          <p:cNvSpPr/>
          <p:nvPr/>
        </p:nvSpPr>
        <p:spPr>
          <a:xfrm>
            <a:off x="914400" y="2348280"/>
            <a:ext cx="746748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Tru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9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3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roe Hieroglyphics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were the Meroe Hieroglyphics fo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Buried in the ground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: On a motorcyc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: Tombs and Temples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: D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34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Text Box 9"/>
          <p:cNvSpPr/>
          <p:nvPr/>
        </p:nvSpPr>
        <p:spPr>
          <a:xfrm>
            <a:off x="838080" y="2043360"/>
            <a:ext cx="746784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C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9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3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7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1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5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3d4a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opar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0" y="838080"/>
          <a:ext cx="9144000" cy="1067040"/>
        </p:xfrm>
        <a:graphic>
          <a:graphicData uri="http://schemas.openxmlformats.org/drawingml/2006/table">
            <a:tbl>
              <a:tblPr/>
              <a:tblGrid>
                <a:gridCol w="1778040"/>
                <a:gridCol w="1650960"/>
                <a:gridCol w="1523880"/>
                <a:gridCol w="2362320"/>
                <a:gridCol w="1828800"/>
              </a:tblGrid>
              <a:tr h="204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Mero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Napat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Nubian Wome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Meroe Hieroglyph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Myster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402" name="AutoShape 73">
            <a:hlinkClick r:id="rId1" action="ppaction://hlinksldjump"/>
          </p:cNvPr>
          <p:cNvSpPr/>
          <p:nvPr/>
        </p:nvSpPr>
        <p:spPr>
          <a:xfrm>
            <a:off x="0" y="1905120"/>
            <a:ext cx="1752480" cy="1066680"/>
          </a:xfrm>
          <a:custGeom>
            <a:avLst/>
            <a:gdLst>
              <a:gd name="textAreaLeft" fmla="*/ 69120 w 1752480"/>
              <a:gd name="textAreaRight" fmla="*/ 1683360 w 17524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5483" h="21600">
                <a:moveTo>
                  <a:pt x="0" y="0"/>
                </a:moveTo>
                <a:lnTo>
                  <a:pt x="35483" y="0"/>
                </a:lnTo>
                <a:lnTo>
                  <a:pt x="35483" y="21600"/>
                </a:lnTo>
                <a:lnTo>
                  <a:pt x="0" y="21600"/>
                </a:lnTo>
                <a:close/>
              </a:path>
              <a:path fill="lightenLess" w="35483" h="21600">
                <a:moveTo>
                  <a:pt x="0" y="0"/>
                </a:moveTo>
                <a:lnTo>
                  <a:pt x="35483" y="0"/>
                </a:lnTo>
                <a:lnTo>
                  <a:pt x="34083" y="1400"/>
                </a:lnTo>
                <a:lnTo>
                  <a:pt x="1400" y="1400"/>
                </a:lnTo>
                <a:close/>
              </a:path>
              <a:path fill="darken" w="35483" h="21600">
                <a:moveTo>
                  <a:pt x="35483" y="0"/>
                </a:moveTo>
                <a:lnTo>
                  <a:pt x="35483" y="21600"/>
                </a:lnTo>
                <a:lnTo>
                  <a:pt x="34083" y="20200"/>
                </a:lnTo>
                <a:lnTo>
                  <a:pt x="34083" y="1400"/>
                </a:lnTo>
                <a:close/>
              </a:path>
              <a:path fill="darkenLess" w="35483" h="21600">
                <a:moveTo>
                  <a:pt x="354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083" y="20200"/>
                </a:lnTo>
                <a:close/>
              </a:path>
              <a:path fill="lighten" w="354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74"/>
          <p:cNvSpPr/>
          <p:nvPr/>
        </p:nvSpPr>
        <p:spPr>
          <a:xfrm>
            <a:off x="0" y="21337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75">
            <a:hlinkClick r:id="rId2" action="ppaction://hlinksldjump"/>
          </p:cNvPr>
          <p:cNvSpPr/>
          <p:nvPr/>
        </p:nvSpPr>
        <p:spPr>
          <a:xfrm>
            <a:off x="0" y="29718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76"/>
          <p:cNvSpPr/>
          <p:nvPr/>
        </p:nvSpPr>
        <p:spPr>
          <a:xfrm>
            <a:off x="0" y="3200400"/>
            <a:ext cx="1752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77">
            <a:hlinkClick r:id="rId3" action="ppaction://hlinksldjump"/>
          </p:cNvPr>
          <p:cNvSpPr/>
          <p:nvPr/>
        </p:nvSpPr>
        <p:spPr>
          <a:xfrm>
            <a:off x="0" y="3962520"/>
            <a:ext cx="1752480" cy="99036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8216" h="21600">
                <a:moveTo>
                  <a:pt x="0" y="0"/>
                </a:moveTo>
                <a:lnTo>
                  <a:pt x="38216" y="0"/>
                </a:lnTo>
                <a:lnTo>
                  <a:pt x="38216" y="21600"/>
                </a:lnTo>
                <a:lnTo>
                  <a:pt x="0" y="21600"/>
                </a:lnTo>
                <a:close/>
              </a:path>
              <a:path fill="lightenLess" w="38216" h="21600">
                <a:moveTo>
                  <a:pt x="0" y="0"/>
                </a:moveTo>
                <a:lnTo>
                  <a:pt x="38216" y="0"/>
                </a:lnTo>
                <a:lnTo>
                  <a:pt x="36816" y="1400"/>
                </a:lnTo>
                <a:lnTo>
                  <a:pt x="1400" y="1400"/>
                </a:lnTo>
                <a:close/>
              </a:path>
              <a:path fill="darken" w="38216" h="21600">
                <a:moveTo>
                  <a:pt x="38216" y="0"/>
                </a:moveTo>
                <a:lnTo>
                  <a:pt x="38216" y="21600"/>
                </a:lnTo>
                <a:lnTo>
                  <a:pt x="36816" y="20200"/>
                </a:lnTo>
                <a:lnTo>
                  <a:pt x="36816" y="1400"/>
                </a:lnTo>
                <a:close/>
              </a:path>
              <a:path fill="darkenLess" w="38216" h="21600">
                <a:moveTo>
                  <a:pt x="382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6" y="20200"/>
                </a:lnTo>
                <a:close/>
              </a:path>
              <a:path fill="lighten" w="382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78"/>
          <p:cNvSpPr/>
          <p:nvPr/>
        </p:nvSpPr>
        <p:spPr>
          <a:xfrm>
            <a:off x="0" y="4114800"/>
            <a:ext cx="167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79">
            <a:hlinkClick r:id="rId4" action="ppaction://hlinksldjump"/>
          </p:cNvPr>
          <p:cNvSpPr/>
          <p:nvPr/>
        </p:nvSpPr>
        <p:spPr>
          <a:xfrm>
            <a:off x="0" y="495288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80">
            <a:hlinkClick r:id="rId5" action="ppaction://hlinksldjump"/>
          </p:cNvPr>
          <p:cNvSpPr/>
          <p:nvPr/>
        </p:nvSpPr>
        <p:spPr>
          <a:xfrm>
            <a:off x="0" y="586728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82"/>
          <p:cNvSpPr/>
          <p:nvPr/>
        </p:nvSpPr>
        <p:spPr>
          <a:xfrm>
            <a:off x="0" y="60199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83"/>
          <p:cNvSpPr/>
          <p:nvPr/>
        </p:nvSpPr>
        <p:spPr>
          <a:xfrm>
            <a:off x="0" y="51055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84">
            <a:hlinkClick r:id="rId6" action="ppaction://hlinksldjump"/>
          </p:cNvPr>
          <p:cNvSpPr/>
          <p:nvPr/>
        </p:nvSpPr>
        <p:spPr>
          <a:xfrm>
            <a:off x="1752480" y="1905120"/>
            <a:ext cx="1676520" cy="1066680"/>
          </a:xfrm>
          <a:custGeom>
            <a:avLst/>
            <a:gdLst>
              <a:gd name="textAreaLeft" fmla="*/ 69120 w 1676520"/>
              <a:gd name="textAreaRight" fmla="*/ 1607400 w 16765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85">
            <a:hlinkClick r:id="rId7" action="ppaction://hlinksldjump"/>
          </p:cNvPr>
          <p:cNvSpPr/>
          <p:nvPr/>
        </p:nvSpPr>
        <p:spPr>
          <a:xfrm>
            <a:off x="1752480" y="2971800"/>
            <a:ext cx="1676520" cy="99072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47" h="21600">
                <a:moveTo>
                  <a:pt x="0" y="0"/>
                </a:moveTo>
                <a:lnTo>
                  <a:pt x="36547" y="0"/>
                </a:lnTo>
                <a:lnTo>
                  <a:pt x="36547" y="21600"/>
                </a:lnTo>
                <a:lnTo>
                  <a:pt x="0" y="21600"/>
                </a:lnTo>
                <a:close/>
              </a:path>
              <a:path fill="lightenLess" w="36547" h="21600">
                <a:moveTo>
                  <a:pt x="0" y="0"/>
                </a:moveTo>
                <a:lnTo>
                  <a:pt x="36547" y="0"/>
                </a:lnTo>
                <a:lnTo>
                  <a:pt x="35147" y="1400"/>
                </a:lnTo>
                <a:lnTo>
                  <a:pt x="1400" y="1400"/>
                </a:lnTo>
                <a:close/>
              </a:path>
              <a:path fill="darken" w="36547" h="21600">
                <a:moveTo>
                  <a:pt x="36547" y="0"/>
                </a:moveTo>
                <a:lnTo>
                  <a:pt x="36547" y="21600"/>
                </a:lnTo>
                <a:lnTo>
                  <a:pt x="35147" y="20200"/>
                </a:lnTo>
                <a:lnTo>
                  <a:pt x="35147" y="1400"/>
                </a:lnTo>
                <a:close/>
              </a:path>
              <a:path fill="darkenLess" w="36547" h="21600">
                <a:moveTo>
                  <a:pt x="36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47" y="20200"/>
                </a:lnTo>
                <a:close/>
              </a:path>
              <a:path fill="lighten" w="36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86">
            <a:hlinkClick r:id="rId8" action="ppaction://hlinksldjump"/>
          </p:cNvPr>
          <p:cNvSpPr/>
          <p:nvPr/>
        </p:nvSpPr>
        <p:spPr>
          <a:xfrm>
            <a:off x="1752480" y="3962520"/>
            <a:ext cx="1676520" cy="99036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6560" h="21600">
                <a:moveTo>
                  <a:pt x="0" y="0"/>
                </a:moveTo>
                <a:lnTo>
                  <a:pt x="36560" y="0"/>
                </a:lnTo>
                <a:lnTo>
                  <a:pt x="36560" y="21600"/>
                </a:lnTo>
                <a:lnTo>
                  <a:pt x="0" y="21600"/>
                </a:lnTo>
                <a:close/>
              </a:path>
              <a:path fill="lightenLess" w="36560" h="21600">
                <a:moveTo>
                  <a:pt x="0" y="0"/>
                </a:moveTo>
                <a:lnTo>
                  <a:pt x="36560" y="0"/>
                </a:lnTo>
                <a:lnTo>
                  <a:pt x="35160" y="1400"/>
                </a:lnTo>
                <a:lnTo>
                  <a:pt x="1400" y="1400"/>
                </a:lnTo>
                <a:close/>
              </a:path>
              <a:path fill="darken" w="36560" h="21600">
                <a:moveTo>
                  <a:pt x="36560" y="0"/>
                </a:moveTo>
                <a:lnTo>
                  <a:pt x="36560" y="21600"/>
                </a:lnTo>
                <a:lnTo>
                  <a:pt x="35160" y="20200"/>
                </a:lnTo>
                <a:lnTo>
                  <a:pt x="35160" y="1400"/>
                </a:lnTo>
                <a:close/>
              </a:path>
              <a:path fill="darkenLess" w="36560" h="21600">
                <a:moveTo>
                  <a:pt x="36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60" y="20200"/>
                </a:lnTo>
                <a:close/>
              </a:path>
              <a:path fill="lighten" w="36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87">
            <a:hlinkClick r:id="rId9" action="ppaction://hlinksldjump"/>
          </p:cNvPr>
          <p:cNvSpPr/>
          <p:nvPr/>
        </p:nvSpPr>
        <p:spPr>
          <a:xfrm>
            <a:off x="1752480" y="4952880"/>
            <a:ext cx="1676520" cy="99072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47" h="21600">
                <a:moveTo>
                  <a:pt x="0" y="0"/>
                </a:moveTo>
                <a:lnTo>
                  <a:pt x="36547" y="0"/>
                </a:lnTo>
                <a:lnTo>
                  <a:pt x="36547" y="21600"/>
                </a:lnTo>
                <a:lnTo>
                  <a:pt x="0" y="21600"/>
                </a:lnTo>
                <a:close/>
              </a:path>
              <a:path fill="lightenLess" w="36547" h="21600">
                <a:moveTo>
                  <a:pt x="0" y="0"/>
                </a:moveTo>
                <a:lnTo>
                  <a:pt x="36547" y="0"/>
                </a:lnTo>
                <a:lnTo>
                  <a:pt x="35147" y="1400"/>
                </a:lnTo>
                <a:lnTo>
                  <a:pt x="1400" y="1400"/>
                </a:lnTo>
                <a:close/>
              </a:path>
              <a:path fill="darken" w="36547" h="21600">
                <a:moveTo>
                  <a:pt x="36547" y="0"/>
                </a:moveTo>
                <a:lnTo>
                  <a:pt x="36547" y="21600"/>
                </a:lnTo>
                <a:lnTo>
                  <a:pt x="35147" y="20200"/>
                </a:lnTo>
                <a:lnTo>
                  <a:pt x="35147" y="1400"/>
                </a:lnTo>
                <a:close/>
              </a:path>
              <a:path fill="darkenLess" w="36547" h="21600">
                <a:moveTo>
                  <a:pt x="36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47" y="20200"/>
                </a:lnTo>
                <a:close/>
              </a:path>
              <a:path fill="lighten" w="36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88">
            <a:hlinkClick r:id="rId10" action="ppaction://hlinksldjump"/>
          </p:cNvPr>
          <p:cNvSpPr/>
          <p:nvPr/>
        </p:nvSpPr>
        <p:spPr>
          <a:xfrm>
            <a:off x="1752480" y="5867280"/>
            <a:ext cx="1676520" cy="99072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47" h="21600">
                <a:moveTo>
                  <a:pt x="0" y="0"/>
                </a:moveTo>
                <a:lnTo>
                  <a:pt x="36547" y="0"/>
                </a:lnTo>
                <a:lnTo>
                  <a:pt x="36547" y="21600"/>
                </a:lnTo>
                <a:lnTo>
                  <a:pt x="0" y="21600"/>
                </a:lnTo>
                <a:close/>
              </a:path>
              <a:path fill="lightenLess" w="36547" h="21600">
                <a:moveTo>
                  <a:pt x="0" y="0"/>
                </a:moveTo>
                <a:lnTo>
                  <a:pt x="36547" y="0"/>
                </a:lnTo>
                <a:lnTo>
                  <a:pt x="35147" y="1400"/>
                </a:lnTo>
                <a:lnTo>
                  <a:pt x="1400" y="1400"/>
                </a:lnTo>
                <a:close/>
              </a:path>
              <a:path fill="darken" w="36547" h="21600">
                <a:moveTo>
                  <a:pt x="36547" y="0"/>
                </a:moveTo>
                <a:lnTo>
                  <a:pt x="36547" y="21600"/>
                </a:lnTo>
                <a:lnTo>
                  <a:pt x="35147" y="20200"/>
                </a:lnTo>
                <a:lnTo>
                  <a:pt x="35147" y="1400"/>
                </a:lnTo>
                <a:close/>
              </a:path>
              <a:path fill="darkenLess" w="36547" h="21600">
                <a:moveTo>
                  <a:pt x="36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47" y="20200"/>
                </a:lnTo>
                <a:close/>
              </a:path>
              <a:path fill="lighten" w="36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89"/>
          <p:cNvSpPr/>
          <p:nvPr/>
        </p:nvSpPr>
        <p:spPr>
          <a:xfrm>
            <a:off x="1828800" y="60199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90"/>
          <p:cNvSpPr/>
          <p:nvPr/>
        </p:nvSpPr>
        <p:spPr>
          <a:xfrm>
            <a:off x="1828800" y="4114800"/>
            <a:ext cx="167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91"/>
          <p:cNvSpPr/>
          <p:nvPr/>
        </p:nvSpPr>
        <p:spPr>
          <a:xfrm>
            <a:off x="1828800" y="51055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92"/>
          <p:cNvSpPr/>
          <p:nvPr/>
        </p:nvSpPr>
        <p:spPr>
          <a:xfrm>
            <a:off x="1752480" y="3124080"/>
            <a:ext cx="167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93"/>
          <p:cNvSpPr/>
          <p:nvPr/>
        </p:nvSpPr>
        <p:spPr>
          <a:xfrm>
            <a:off x="1752480" y="21337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94">
            <a:hlinkClick r:id="rId11" action="ppaction://hlinksldjump"/>
          </p:cNvPr>
          <p:cNvSpPr/>
          <p:nvPr/>
        </p:nvSpPr>
        <p:spPr>
          <a:xfrm>
            <a:off x="3429000" y="2971800"/>
            <a:ext cx="1600200" cy="99072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4883" h="21600">
                <a:moveTo>
                  <a:pt x="0" y="0"/>
                </a:moveTo>
                <a:lnTo>
                  <a:pt x="34883" y="0"/>
                </a:lnTo>
                <a:lnTo>
                  <a:pt x="34883" y="21600"/>
                </a:lnTo>
                <a:lnTo>
                  <a:pt x="0" y="21600"/>
                </a:lnTo>
                <a:close/>
              </a:path>
              <a:path fill="lightenLess" w="34883" h="21600">
                <a:moveTo>
                  <a:pt x="0" y="0"/>
                </a:moveTo>
                <a:lnTo>
                  <a:pt x="34883" y="0"/>
                </a:lnTo>
                <a:lnTo>
                  <a:pt x="33483" y="1400"/>
                </a:lnTo>
                <a:lnTo>
                  <a:pt x="1400" y="1400"/>
                </a:lnTo>
                <a:close/>
              </a:path>
              <a:path fill="darken" w="34883" h="21600">
                <a:moveTo>
                  <a:pt x="34883" y="0"/>
                </a:moveTo>
                <a:lnTo>
                  <a:pt x="34883" y="21600"/>
                </a:lnTo>
                <a:lnTo>
                  <a:pt x="33483" y="20200"/>
                </a:lnTo>
                <a:lnTo>
                  <a:pt x="33483" y="1400"/>
                </a:lnTo>
                <a:close/>
              </a:path>
              <a:path fill="darkenLess" w="34883" h="21600">
                <a:moveTo>
                  <a:pt x="348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83" y="20200"/>
                </a:lnTo>
                <a:close/>
              </a:path>
              <a:path fill="lighten" w="348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95">
            <a:hlinkClick r:id="rId12" action="ppaction://hlinksldjump"/>
          </p:cNvPr>
          <p:cNvSpPr/>
          <p:nvPr/>
        </p:nvSpPr>
        <p:spPr>
          <a:xfrm>
            <a:off x="3429000" y="4952880"/>
            <a:ext cx="1600200" cy="914400"/>
          </a:xfrm>
          <a:custGeom>
            <a:avLst/>
            <a:gdLst>
              <a:gd name="textAreaLeft" fmla="*/ 59040 w 1600200"/>
              <a:gd name="textAreaRight" fmla="*/ 1541160 w 16002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96">
            <a:hlinkClick r:id="rId13" action="ppaction://hlinksldjump"/>
          </p:cNvPr>
          <p:cNvSpPr/>
          <p:nvPr/>
        </p:nvSpPr>
        <p:spPr>
          <a:xfrm>
            <a:off x="3429000" y="5867280"/>
            <a:ext cx="1600200" cy="99072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4883" h="21600">
                <a:moveTo>
                  <a:pt x="0" y="0"/>
                </a:moveTo>
                <a:lnTo>
                  <a:pt x="34883" y="0"/>
                </a:lnTo>
                <a:lnTo>
                  <a:pt x="34883" y="21600"/>
                </a:lnTo>
                <a:lnTo>
                  <a:pt x="0" y="21600"/>
                </a:lnTo>
                <a:close/>
              </a:path>
              <a:path fill="lightenLess" w="34883" h="21600">
                <a:moveTo>
                  <a:pt x="0" y="0"/>
                </a:moveTo>
                <a:lnTo>
                  <a:pt x="34883" y="0"/>
                </a:lnTo>
                <a:lnTo>
                  <a:pt x="33483" y="1400"/>
                </a:lnTo>
                <a:lnTo>
                  <a:pt x="1400" y="1400"/>
                </a:lnTo>
                <a:close/>
              </a:path>
              <a:path fill="darken" w="34883" h="21600">
                <a:moveTo>
                  <a:pt x="34883" y="0"/>
                </a:moveTo>
                <a:lnTo>
                  <a:pt x="34883" y="21600"/>
                </a:lnTo>
                <a:lnTo>
                  <a:pt x="33483" y="20200"/>
                </a:lnTo>
                <a:lnTo>
                  <a:pt x="33483" y="1400"/>
                </a:lnTo>
                <a:close/>
              </a:path>
              <a:path fill="darkenLess" w="34883" h="21600">
                <a:moveTo>
                  <a:pt x="348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83" y="20200"/>
                </a:lnTo>
                <a:close/>
              </a:path>
              <a:path fill="lighten" w="348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97">
            <a:hlinkClick r:id="rId14" action="ppaction://hlinksldjump"/>
          </p:cNvPr>
          <p:cNvSpPr/>
          <p:nvPr/>
        </p:nvSpPr>
        <p:spPr>
          <a:xfrm>
            <a:off x="3429000" y="3962520"/>
            <a:ext cx="1600200" cy="99036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4896" h="21600">
                <a:moveTo>
                  <a:pt x="0" y="0"/>
                </a:moveTo>
                <a:lnTo>
                  <a:pt x="34896" y="0"/>
                </a:lnTo>
                <a:lnTo>
                  <a:pt x="34896" y="21600"/>
                </a:lnTo>
                <a:lnTo>
                  <a:pt x="0" y="21600"/>
                </a:lnTo>
                <a:close/>
              </a:path>
              <a:path fill="lightenLess" w="34896" h="21600">
                <a:moveTo>
                  <a:pt x="0" y="0"/>
                </a:moveTo>
                <a:lnTo>
                  <a:pt x="34896" y="0"/>
                </a:lnTo>
                <a:lnTo>
                  <a:pt x="33496" y="1400"/>
                </a:lnTo>
                <a:lnTo>
                  <a:pt x="1400" y="1400"/>
                </a:lnTo>
                <a:close/>
              </a:path>
              <a:path fill="darken" w="34896" h="21600">
                <a:moveTo>
                  <a:pt x="34896" y="0"/>
                </a:moveTo>
                <a:lnTo>
                  <a:pt x="34896" y="21600"/>
                </a:lnTo>
                <a:lnTo>
                  <a:pt x="33496" y="20200"/>
                </a:lnTo>
                <a:lnTo>
                  <a:pt x="33496" y="1400"/>
                </a:lnTo>
                <a:close/>
              </a:path>
              <a:path fill="darkenLess" w="34896" h="21600">
                <a:moveTo>
                  <a:pt x="348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96" y="20200"/>
                </a:lnTo>
                <a:close/>
              </a:path>
              <a:path fill="lighten" w="348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98">
            <a:hlinkClick r:id="rId15" action="ppaction://hlinksldjump"/>
          </p:cNvPr>
          <p:cNvSpPr/>
          <p:nvPr/>
        </p:nvSpPr>
        <p:spPr>
          <a:xfrm>
            <a:off x="3429000" y="1905120"/>
            <a:ext cx="1600200" cy="1066680"/>
          </a:xfrm>
          <a:custGeom>
            <a:avLst/>
            <a:gdLst>
              <a:gd name="textAreaLeft" fmla="*/ 69120 w 1600200"/>
              <a:gd name="textAreaRight" fmla="*/ 1531080 w 16002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00"/>
          <p:cNvSpPr/>
          <p:nvPr/>
        </p:nvSpPr>
        <p:spPr>
          <a:xfrm>
            <a:off x="3581280" y="3124080"/>
            <a:ext cx="12956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01"/>
          <p:cNvSpPr/>
          <p:nvPr/>
        </p:nvSpPr>
        <p:spPr>
          <a:xfrm>
            <a:off x="3581280" y="4114800"/>
            <a:ext cx="129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02"/>
          <p:cNvSpPr/>
          <p:nvPr/>
        </p:nvSpPr>
        <p:spPr>
          <a:xfrm>
            <a:off x="3581280" y="5105520"/>
            <a:ext cx="129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03"/>
          <p:cNvSpPr/>
          <p:nvPr/>
        </p:nvSpPr>
        <p:spPr>
          <a:xfrm>
            <a:off x="3581280" y="6019920"/>
            <a:ext cx="129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104">
            <a:hlinkClick r:id="rId16" action="ppaction://hlinksldjump"/>
          </p:cNvPr>
          <p:cNvSpPr/>
          <p:nvPr/>
        </p:nvSpPr>
        <p:spPr>
          <a:xfrm>
            <a:off x="5029200" y="1905120"/>
            <a:ext cx="2286000" cy="1066680"/>
          </a:xfrm>
          <a:custGeom>
            <a:avLst/>
            <a:gdLst>
              <a:gd name="textAreaLeft" fmla="*/ 69120 w 2286000"/>
              <a:gd name="textAreaRight" fmla="*/ 2216880 w 22860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46283" h="21600">
                <a:moveTo>
                  <a:pt x="0" y="0"/>
                </a:moveTo>
                <a:lnTo>
                  <a:pt x="46283" y="0"/>
                </a:lnTo>
                <a:lnTo>
                  <a:pt x="46283" y="21600"/>
                </a:lnTo>
                <a:lnTo>
                  <a:pt x="0" y="21600"/>
                </a:lnTo>
                <a:close/>
              </a:path>
              <a:path fill="lightenLess" w="46283" h="21600">
                <a:moveTo>
                  <a:pt x="0" y="0"/>
                </a:moveTo>
                <a:lnTo>
                  <a:pt x="46283" y="0"/>
                </a:lnTo>
                <a:lnTo>
                  <a:pt x="44883" y="1400"/>
                </a:lnTo>
                <a:lnTo>
                  <a:pt x="1400" y="1400"/>
                </a:lnTo>
                <a:close/>
              </a:path>
              <a:path fill="darken" w="46283" h="21600">
                <a:moveTo>
                  <a:pt x="46283" y="0"/>
                </a:moveTo>
                <a:lnTo>
                  <a:pt x="46283" y="21600"/>
                </a:lnTo>
                <a:lnTo>
                  <a:pt x="44883" y="20200"/>
                </a:lnTo>
                <a:lnTo>
                  <a:pt x="44883" y="1400"/>
                </a:lnTo>
                <a:close/>
              </a:path>
              <a:path fill="darkenLess" w="46283" h="21600">
                <a:moveTo>
                  <a:pt x="462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83" y="20200"/>
                </a:lnTo>
                <a:close/>
              </a:path>
              <a:path fill="lighten" w="462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105">
            <a:hlinkClick r:id="rId17" action="ppaction://hlinksldjump"/>
          </p:cNvPr>
          <p:cNvSpPr/>
          <p:nvPr/>
        </p:nvSpPr>
        <p:spPr>
          <a:xfrm>
            <a:off x="5029200" y="29718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106">
            <a:hlinkClick r:id="rId18" action="ppaction://hlinksldjump"/>
          </p:cNvPr>
          <p:cNvSpPr/>
          <p:nvPr/>
        </p:nvSpPr>
        <p:spPr>
          <a:xfrm>
            <a:off x="5029200" y="3962520"/>
            <a:ext cx="2286000" cy="99036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9848" h="21600">
                <a:moveTo>
                  <a:pt x="0" y="0"/>
                </a:moveTo>
                <a:lnTo>
                  <a:pt x="49848" y="0"/>
                </a:lnTo>
                <a:lnTo>
                  <a:pt x="49848" y="21600"/>
                </a:lnTo>
                <a:lnTo>
                  <a:pt x="0" y="21600"/>
                </a:lnTo>
                <a:close/>
              </a:path>
              <a:path fill="lightenLess" w="49848" h="21600">
                <a:moveTo>
                  <a:pt x="0" y="0"/>
                </a:moveTo>
                <a:lnTo>
                  <a:pt x="49848" y="0"/>
                </a:lnTo>
                <a:lnTo>
                  <a:pt x="48448" y="1400"/>
                </a:lnTo>
                <a:lnTo>
                  <a:pt x="1400" y="1400"/>
                </a:lnTo>
                <a:close/>
              </a:path>
              <a:path fill="darken" w="49848" h="21600">
                <a:moveTo>
                  <a:pt x="49848" y="0"/>
                </a:moveTo>
                <a:lnTo>
                  <a:pt x="49848" y="21600"/>
                </a:lnTo>
                <a:lnTo>
                  <a:pt x="48448" y="20200"/>
                </a:lnTo>
                <a:lnTo>
                  <a:pt x="48448" y="1400"/>
                </a:lnTo>
                <a:close/>
              </a:path>
              <a:path fill="darkenLess" w="49848" h="21600">
                <a:moveTo>
                  <a:pt x="49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48" y="20200"/>
                </a:lnTo>
                <a:close/>
              </a:path>
              <a:path fill="lighten" w="49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107">
            <a:hlinkClick r:id="rId19" action="ppaction://hlinksldjump"/>
          </p:cNvPr>
          <p:cNvSpPr/>
          <p:nvPr/>
        </p:nvSpPr>
        <p:spPr>
          <a:xfrm>
            <a:off x="5029200" y="4952880"/>
            <a:ext cx="2286000" cy="914400"/>
          </a:xfrm>
          <a:custGeom>
            <a:avLst/>
            <a:gdLst>
              <a:gd name="textAreaLeft" fmla="*/ 59040 w 2286000"/>
              <a:gd name="textAreaRight" fmla="*/ 2226960 w 2286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53987" h="21600">
                <a:moveTo>
                  <a:pt x="0" y="0"/>
                </a:moveTo>
                <a:lnTo>
                  <a:pt x="53987" y="0"/>
                </a:lnTo>
                <a:lnTo>
                  <a:pt x="53987" y="21600"/>
                </a:lnTo>
                <a:lnTo>
                  <a:pt x="0" y="21600"/>
                </a:lnTo>
                <a:close/>
              </a:path>
              <a:path fill="lightenLess" w="53987" h="21600">
                <a:moveTo>
                  <a:pt x="0" y="0"/>
                </a:moveTo>
                <a:lnTo>
                  <a:pt x="53987" y="0"/>
                </a:lnTo>
                <a:lnTo>
                  <a:pt x="52587" y="1400"/>
                </a:lnTo>
                <a:lnTo>
                  <a:pt x="1400" y="1400"/>
                </a:lnTo>
                <a:close/>
              </a:path>
              <a:path fill="darken" w="53987" h="21600">
                <a:moveTo>
                  <a:pt x="53987" y="0"/>
                </a:moveTo>
                <a:lnTo>
                  <a:pt x="53987" y="21600"/>
                </a:lnTo>
                <a:lnTo>
                  <a:pt x="52587" y="20200"/>
                </a:lnTo>
                <a:lnTo>
                  <a:pt x="52587" y="1400"/>
                </a:lnTo>
                <a:close/>
              </a:path>
              <a:path fill="darkenLess" w="53987" h="21600">
                <a:moveTo>
                  <a:pt x="539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87" y="20200"/>
                </a:lnTo>
                <a:close/>
              </a:path>
              <a:path fill="lighten" w="539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108">
            <a:hlinkClick r:id="rId20" action="ppaction://hlinksldjump"/>
          </p:cNvPr>
          <p:cNvSpPr/>
          <p:nvPr/>
        </p:nvSpPr>
        <p:spPr>
          <a:xfrm>
            <a:off x="5029200" y="58672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109"/>
          <p:cNvSpPr/>
          <p:nvPr/>
        </p:nvSpPr>
        <p:spPr>
          <a:xfrm>
            <a:off x="5486400" y="213372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10"/>
          <p:cNvSpPr/>
          <p:nvPr/>
        </p:nvSpPr>
        <p:spPr>
          <a:xfrm>
            <a:off x="3581280" y="2133720"/>
            <a:ext cx="129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11"/>
          <p:cNvSpPr/>
          <p:nvPr/>
        </p:nvSpPr>
        <p:spPr>
          <a:xfrm>
            <a:off x="5486400" y="3124080"/>
            <a:ext cx="12952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12"/>
          <p:cNvSpPr/>
          <p:nvPr/>
        </p:nvSpPr>
        <p:spPr>
          <a:xfrm>
            <a:off x="5486400" y="411480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13"/>
          <p:cNvSpPr/>
          <p:nvPr/>
        </p:nvSpPr>
        <p:spPr>
          <a:xfrm>
            <a:off x="5410080" y="5105520"/>
            <a:ext cx="129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114"/>
          <p:cNvSpPr/>
          <p:nvPr/>
        </p:nvSpPr>
        <p:spPr>
          <a:xfrm>
            <a:off x="5486400" y="601992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115">
            <a:hlinkClick r:id="rId21" action="ppaction://hlinksldjump"/>
          </p:cNvPr>
          <p:cNvSpPr/>
          <p:nvPr/>
        </p:nvSpPr>
        <p:spPr>
          <a:xfrm>
            <a:off x="7315200" y="1905120"/>
            <a:ext cx="1828800" cy="1066680"/>
          </a:xfrm>
          <a:custGeom>
            <a:avLst/>
            <a:gdLst>
              <a:gd name="textAreaLeft" fmla="*/ 69120 w 1828800"/>
              <a:gd name="textAreaRight" fmla="*/ 1759680 w 18288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7028" h="21600">
                <a:moveTo>
                  <a:pt x="0" y="0"/>
                </a:moveTo>
                <a:lnTo>
                  <a:pt x="37028" y="0"/>
                </a:lnTo>
                <a:lnTo>
                  <a:pt x="37028" y="21600"/>
                </a:lnTo>
                <a:lnTo>
                  <a:pt x="0" y="21600"/>
                </a:lnTo>
                <a:close/>
              </a:path>
              <a:path fill="lightenLess" w="37028" h="21600">
                <a:moveTo>
                  <a:pt x="0" y="0"/>
                </a:moveTo>
                <a:lnTo>
                  <a:pt x="37028" y="0"/>
                </a:lnTo>
                <a:lnTo>
                  <a:pt x="35628" y="1400"/>
                </a:lnTo>
                <a:lnTo>
                  <a:pt x="1400" y="1400"/>
                </a:lnTo>
                <a:close/>
              </a:path>
              <a:path fill="darken" w="37028" h="21600">
                <a:moveTo>
                  <a:pt x="37028" y="0"/>
                </a:moveTo>
                <a:lnTo>
                  <a:pt x="37028" y="21600"/>
                </a:lnTo>
                <a:lnTo>
                  <a:pt x="35628" y="20200"/>
                </a:lnTo>
                <a:lnTo>
                  <a:pt x="35628" y="1400"/>
                </a:lnTo>
                <a:close/>
              </a:path>
              <a:path fill="darkenLess" w="37028" h="21600">
                <a:moveTo>
                  <a:pt x="370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28" y="20200"/>
                </a:lnTo>
                <a:close/>
              </a:path>
              <a:path fill="lighten" w="370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116">
            <a:hlinkClick r:id="rId22" action="ppaction://hlinksldjump"/>
          </p:cNvPr>
          <p:cNvSpPr/>
          <p:nvPr/>
        </p:nvSpPr>
        <p:spPr>
          <a:xfrm>
            <a:off x="7315200" y="2971800"/>
            <a:ext cx="1828800" cy="990720"/>
          </a:xfrm>
          <a:custGeom>
            <a:avLst/>
            <a:gdLst>
              <a:gd name="textAreaLeft" fmla="*/ 64080 w 1828800"/>
              <a:gd name="textAreaRight" fmla="*/ 1764720 w 18288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9865" h="21600">
                <a:moveTo>
                  <a:pt x="0" y="0"/>
                </a:moveTo>
                <a:lnTo>
                  <a:pt x="39865" y="0"/>
                </a:lnTo>
                <a:lnTo>
                  <a:pt x="39865" y="21600"/>
                </a:lnTo>
                <a:lnTo>
                  <a:pt x="0" y="21600"/>
                </a:lnTo>
                <a:close/>
              </a:path>
              <a:path fill="lightenLess" w="39865" h="21600">
                <a:moveTo>
                  <a:pt x="0" y="0"/>
                </a:moveTo>
                <a:lnTo>
                  <a:pt x="39865" y="0"/>
                </a:lnTo>
                <a:lnTo>
                  <a:pt x="38466" y="1400"/>
                </a:lnTo>
                <a:lnTo>
                  <a:pt x="1400" y="1400"/>
                </a:lnTo>
                <a:close/>
              </a:path>
              <a:path fill="darken" w="39865" h="21600">
                <a:moveTo>
                  <a:pt x="39865" y="0"/>
                </a:moveTo>
                <a:lnTo>
                  <a:pt x="39865" y="21600"/>
                </a:lnTo>
                <a:lnTo>
                  <a:pt x="38466" y="20200"/>
                </a:lnTo>
                <a:lnTo>
                  <a:pt x="38466" y="1400"/>
                </a:lnTo>
                <a:close/>
              </a:path>
              <a:path fill="darkenLess" w="39865" h="21600">
                <a:moveTo>
                  <a:pt x="398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66" y="20200"/>
                </a:lnTo>
                <a:close/>
              </a:path>
              <a:path fill="lighten" w="398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117">
            <a:hlinkClick r:id="rId23" action="ppaction://hlinksldjump"/>
          </p:cNvPr>
          <p:cNvSpPr/>
          <p:nvPr/>
        </p:nvSpPr>
        <p:spPr>
          <a:xfrm>
            <a:off x="7315200" y="3962520"/>
            <a:ext cx="1828800" cy="990360"/>
          </a:xfrm>
          <a:custGeom>
            <a:avLst/>
            <a:gdLst>
              <a:gd name="textAreaLeft" fmla="*/ 64080 w 1828800"/>
              <a:gd name="textAreaRight" fmla="*/ 1764720 w 18288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9880" h="21600">
                <a:moveTo>
                  <a:pt x="0" y="0"/>
                </a:moveTo>
                <a:lnTo>
                  <a:pt x="39880" y="0"/>
                </a:lnTo>
                <a:lnTo>
                  <a:pt x="39880" y="21600"/>
                </a:lnTo>
                <a:lnTo>
                  <a:pt x="0" y="21600"/>
                </a:lnTo>
                <a:close/>
              </a:path>
              <a:path fill="lightenLess" w="39880" h="21600">
                <a:moveTo>
                  <a:pt x="0" y="0"/>
                </a:moveTo>
                <a:lnTo>
                  <a:pt x="39880" y="0"/>
                </a:lnTo>
                <a:lnTo>
                  <a:pt x="38480" y="1400"/>
                </a:lnTo>
                <a:lnTo>
                  <a:pt x="1400" y="1400"/>
                </a:lnTo>
                <a:close/>
              </a:path>
              <a:path fill="darken" w="39880" h="21600">
                <a:moveTo>
                  <a:pt x="39880" y="0"/>
                </a:moveTo>
                <a:lnTo>
                  <a:pt x="39880" y="21600"/>
                </a:lnTo>
                <a:lnTo>
                  <a:pt x="38480" y="20200"/>
                </a:lnTo>
                <a:lnTo>
                  <a:pt x="38480" y="1400"/>
                </a:lnTo>
                <a:close/>
              </a:path>
              <a:path fill="darkenLess" w="39880" h="21600">
                <a:moveTo>
                  <a:pt x="398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80" y="20200"/>
                </a:lnTo>
                <a:close/>
              </a:path>
              <a:path fill="lighten" w="398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118">
            <a:hlinkClick r:id="rId24" action="ppaction://hlinksldjump"/>
          </p:cNvPr>
          <p:cNvSpPr/>
          <p:nvPr/>
        </p:nvSpPr>
        <p:spPr>
          <a:xfrm>
            <a:off x="7315200" y="49528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119">
            <a:hlinkClick r:id="rId25" action="ppaction://hlinksldjump"/>
          </p:cNvPr>
          <p:cNvSpPr/>
          <p:nvPr/>
        </p:nvSpPr>
        <p:spPr>
          <a:xfrm>
            <a:off x="7315200" y="5867280"/>
            <a:ext cx="1828800" cy="990720"/>
          </a:xfrm>
          <a:custGeom>
            <a:avLst/>
            <a:gdLst>
              <a:gd name="textAreaLeft" fmla="*/ 64080 w 1828800"/>
              <a:gd name="textAreaRight" fmla="*/ 1764720 w 18288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9865" h="21600">
                <a:moveTo>
                  <a:pt x="0" y="0"/>
                </a:moveTo>
                <a:lnTo>
                  <a:pt x="39865" y="0"/>
                </a:lnTo>
                <a:lnTo>
                  <a:pt x="39865" y="21600"/>
                </a:lnTo>
                <a:lnTo>
                  <a:pt x="0" y="21600"/>
                </a:lnTo>
                <a:close/>
              </a:path>
              <a:path fill="lightenLess" w="39865" h="21600">
                <a:moveTo>
                  <a:pt x="0" y="0"/>
                </a:moveTo>
                <a:lnTo>
                  <a:pt x="39865" y="0"/>
                </a:lnTo>
                <a:lnTo>
                  <a:pt x="38466" y="1400"/>
                </a:lnTo>
                <a:lnTo>
                  <a:pt x="1400" y="1400"/>
                </a:lnTo>
                <a:close/>
              </a:path>
              <a:path fill="darken" w="39865" h="21600">
                <a:moveTo>
                  <a:pt x="39865" y="0"/>
                </a:moveTo>
                <a:lnTo>
                  <a:pt x="39865" y="21600"/>
                </a:lnTo>
                <a:lnTo>
                  <a:pt x="38466" y="20200"/>
                </a:lnTo>
                <a:lnTo>
                  <a:pt x="38466" y="1400"/>
                </a:lnTo>
                <a:close/>
              </a:path>
              <a:path fill="darkenLess" w="39865" h="21600">
                <a:moveTo>
                  <a:pt x="398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66" y="20200"/>
                </a:lnTo>
                <a:close/>
              </a:path>
              <a:path fill="lighten" w="398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20"/>
          <p:cNvSpPr/>
          <p:nvPr/>
        </p:nvSpPr>
        <p:spPr>
          <a:xfrm>
            <a:off x="7543800" y="213372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21"/>
          <p:cNvSpPr/>
          <p:nvPr/>
        </p:nvSpPr>
        <p:spPr>
          <a:xfrm>
            <a:off x="7543800" y="3124080"/>
            <a:ext cx="12952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22"/>
          <p:cNvSpPr/>
          <p:nvPr/>
        </p:nvSpPr>
        <p:spPr>
          <a:xfrm>
            <a:off x="7543800" y="411480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23"/>
          <p:cNvSpPr/>
          <p:nvPr/>
        </p:nvSpPr>
        <p:spPr>
          <a:xfrm>
            <a:off x="7543800" y="510552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24"/>
          <p:cNvSpPr/>
          <p:nvPr/>
        </p:nvSpPr>
        <p:spPr>
          <a:xfrm>
            <a:off x="7543800" y="601992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70">
            <a:hlinkClick r:id="rId26" action="ppaction://hlinksldjump"/>
          </p:cNvPr>
          <p:cNvSpPr/>
          <p:nvPr/>
        </p:nvSpPr>
        <p:spPr>
          <a:xfrm>
            <a:off x="6858000" y="0"/>
            <a:ext cx="2057400" cy="838080"/>
          </a:xfrm>
          <a:custGeom>
            <a:avLst/>
            <a:gdLst>
              <a:gd name="textAreaLeft" fmla="*/ 54000 w 2057400"/>
              <a:gd name="textAreaRight" fmla="*/ 2003400 w 2057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53012" h="21600">
                <a:moveTo>
                  <a:pt x="0" y="0"/>
                </a:moveTo>
                <a:lnTo>
                  <a:pt x="53012" y="0"/>
                </a:lnTo>
                <a:lnTo>
                  <a:pt x="53012" y="21600"/>
                </a:lnTo>
                <a:lnTo>
                  <a:pt x="0" y="21600"/>
                </a:lnTo>
                <a:close/>
              </a:path>
              <a:path fill="lightenLess" w="53012" h="21600">
                <a:moveTo>
                  <a:pt x="0" y="0"/>
                </a:moveTo>
                <a:lnTo>
                  <a:pt x="53012" y="0"/>
                </a:lnTo>
                <a:lnTo>
                  <a:pt x="51612" y="1400"/>
                </a:lnTo>
                <a:lnTo>
                  <a:pt x="1400" y="1400"/>
                </a:lnTo>
                <a:close/>
              </a:path>
              <a:path fill="darken" w="53012" h="21600">
                <a:moveTo>
                  <a:pt x="53012" y="0"/>
                </a:moveTo>
                <a:lnTo>
                  <a:pt x="53012" y="21600"/>
                </a:lnTo>
                <a:lnTo>
                  <a:pt x="51612" y="20200"/>
                </a:lnTo>
                <a:lnTo>
                  <a:pt x="51612" y="1400"/>
                </a:lnTo>
                <a:close/>
              </a:path>
              <a:path fill="darkenLess" w="53012" h="21600">
                <a:moveTo>
                  <a:pt x="530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612" y="20200"/>
                </a:lnTo>
                <a:close/>
              </a:path>
              <a:path fill="lighten" w="530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012" h="21600">
                <a:moveTo>
                  <a:pt x="30005" y="10800"/>
                </a:moveTo>
                <a:lnTo>
                  <a:pt x="19500" y="17806"/>
                </a:lnTo>
                <a:lnTo>
                  <a:pt x="19500" y="3794"/>
                </a:lnTo>
                <a:close/>
              </a:path>
              <a:path fill="darken" w="53012" h="21600">
                <a:moveTo>
                  <a:pt x="31850" y="3794"/>
                </a:moveTo>
                <a:lnTo>
                  <a:pt x="31850" y="17806"/>
                </a:lnTo>
                <a:lnTo>
                  <a:pt x="33513" y="17806"/>
                </a:lnTo>
                <a:lnTo>
                  <a:pt x="33513" y="3794"/>
                </a:lnTo>
                <a:close/>
              </a:path>
            </a:pathLst>
          </a:custGeom>
          <a:gradFill rotWithShape="0">
            <a:gsLst>
              <a:gs pos="0">
                <a:srgbClr val="009900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roe Hieroglyphics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e or 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oe created their Hieroglyphics based on Sum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40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Text Box 8"/>
          <p:cNvSpPr/>
          <p:nvPr/>
        </p:nvSpPr>
        <p:spPr>
          <a:xfrm>
            <a:off x="838080" y="1738440"/>
            <a:ext cx="746784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Fals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1" dur="5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5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roe Hieroglyphics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45" name="AutoShape 4" descr=""/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7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12"/>
          <p:cNvSpPr/>
          <p:nvPr/>
        </p:nvSpPr>
        <p:spPr>
          <a:xfrm flipV="1" rot="10800000">
            <a:off x="377640" y="1905120"/>
            <a:ext cx="83120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eroitic script was used in the Kingdom of Kush, from the 2nd century BCE onwards until the 5th century C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14"/>
          <p:cNvSpPr/>
          <p:nvPr/>
        </p:nvSpPr>
        <p:spPr>
          <a:xfrm>
            <a:off x="838080" y="2043360"/>
            <a:ext cx="746784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Tru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1" dur="5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5" dur="500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roe Hieroglyphics 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52" name="AutoShape 4" descr=""/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hieroglyphic for 'a' was used only in the beginning of words (where a syllabic 'a' might occur)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9"/>
          <p:cNvSpPr/>
          <p:nvPr/>
        </p:nvSpPr>
        <p:spPr>
          <a:xfrm>
            <a:off x="838080" y="2043360"/>
            <a:ext cx="746784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Tru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1" dur="5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5" dur="500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capital of Pennsylvan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59" name="AutoShape 4" descr=""/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" name="Rectangle 3"/>
          <p:cNvSpPr/>
          <p:nvPr/>
        </p:nvSpPr>
        <p:spPr>
          <a:xfrm>
            <a:off x="609480" y="35053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Harrisburg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1" dur="5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is on the penn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65" name="AutoShape 4" descr=""/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Rectangle 3"/>
          <p:cNvSpPr/>
          <p:nvPr/>
        </p:nvSpPr>
        <p:spPr>
          <a:xfrm>
            <a:off x="609480" y="30481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ABRAHAM LINCOL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7" dur="5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are in a baker’s doz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71" name="AutoShape 4" descr=""/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2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3" name="Rectangle 3"/>
          <p:cNvSpPr/>
          <p:nvPr/>
        </p:nvSpPr>
        <p:spPr>
          <a:xfrm>
            <a:off x="609480" y="35053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3" dur="5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lane crashes on the border of Canada and the USA. Where do you bury the survivo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77" name="AutoShape 4" descr=""/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9" name="Rectangle 3"/>
          <p:cNvSpPr/>
          <p:nvPr/>
        </p:nvSpPr>
        <p:spPr>
          <a:xfrm>
            <a:off x="609480" y="25909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You don’t bury survivors!!</a:t>
            </a:r>
            <a:r>
              <a:rPr b="0" lang="en-US" sz="8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7" dur="5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are in a dark and cold room with nothing but a match, oil lamp, and furnace.  Which do you light fir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83" name="AutoShape 4" descr=""/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Rectangle 3"/>
          <p:cNvSpPr/>
          <p:nvPr/>
        </p:nvSpPr>
        <p:spPr>
          <a:xfrm>
            <a:off x="609480" y="35053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The match!!</a:t>
            </a:r>
            <a:r>
              <a:rPr b="0" lang="en-US" sz="8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3" dur="50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2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-4572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Elephant"/>
              </a:rPr>
              <a:t>The End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533520" y="3124080"/>
            <a:ext cx="6045120" cy="15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00"/>
                </a:solidFill>
                <a:latin typeface="Elephant"/>
              </a:rPr>
              <a:t>We hope you enjoyed the game</a:t>
            </a:r>
            <a:endParaRPr b="0" lang="en-US" sz="6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8" name="Text Box 8"/>
          <p:cNvSpPr/>
          <p:nvPr/>
        </p:nvSpPr>
        <p:spPr>
          <a:xfrm>
            <a:off x="1295280" y="2057400"/>
            <a:ext cx="670572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reato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organ and Gwy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09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14" dur="10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ween which two cataracts on the Nile River is Meroe loc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it’s not on the Nile    B: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: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D: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4">
            <a:hlinkClick r:id="rId1" action="ppaction://hlinksldjump"/>
          </p:cNvPr>
          <p:cNvSpPr/>
          <p:nvPr/>
        </p:nvSpPr>
        <p:spPr>
          <a:xfrm>
            <a:off x="7162920" y="533520"/>
            <a:ext cx="1295280" cy="838080"/>
          </a:xfrm>
          <a:custGeom>
            <a:avLst/>
            <a:gdLst>
              <a:gd name="textAreaLeft" fmla="*/ 54000 w 1295280"/>
              <a:gd name="textAreaRight" fmla="*/ 1241280 w 12952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3378" h="21600">
                <a:moveTo>
                  <a:pt x="0" y="0"/>
                </a:moveTo>
                <a:lnTo>
                  <a:pt x="33378" y="0"/>
                </a:lnTo>
                <a:lnTo>
                  <a:pt x="33378" y="21600"/>
                </a:lnTo>
                <a:lnTo>
                  <a:pt x="0" y="21600"/>
                </a:lnTo>
                <a:close/>
              </a:path>
              <a:path fill="lightenLess" w="33378" h="21600">
                <a:moveTo>
                  <a:pt x="0" y="0"/>
                </a:moveTo>
                <a:lnTo>
                  <a:pt x="33378" y="0"/>
                </a:lnTo>
                <a:lnTo>
                  <a:pt x="31978" y="1400"/>
                </a:lnTo>
                <a:lnTo>
                  <a:pt x="1400" y="1400"/>
                </a:lnTo>
                <a:close/>
              </a:path>
              <a:path fill="darken" w="33378" h="21600">
                <a:moveTo>
                  <a:pt x="33378" y="0"/>
                </a:moveTo>
                <a:lnTo>
                  <a:pt x="33378" y="21600"/>
                </a:lnTo>
                <a:lnTo>
                  <a:pt x="31978" y="20200"/>
                </a:lnTo>
                <a:lnTo>
                  <a:pt x="31978" y="1400"/>
                </a:lnTo>
                <a:close/>
              </a:path>
              <a:path fill="darkenLess" w="33378" h="21600">
                <a:moveTo>
                  <a:pt x="33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78" y="20200"/>
                </a:lnTo>
                <a:close/>
              </a:path>
              <a:path fill="lighten" w="33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78" h="21600">
                <a:moveTo>
                  <a:pt x="16689" y="3837"/>
                </a:moveTo>
                <a:lnTo>
                  <a:pt x="19266" y="6448"/>
                </a:lnTo>
                <a:lnTo>
                  <a:pt x="19266" y="4707"/>
                </a:lnTo>
                <a:lnTo>
                  <a:pt x="21041" y="4707"/>
                </a:lnTo>
                <a:lnTo>
                  <a:pt x="21041" y="8224"/>
                </a:lnTo>
                <a:lnTo>
                  <a:pt x="23652" y="10800"/>
                </a:lnTo>
                <a:lnTo>
                  <a:pt x="21998" y="10800"/>
                </a:lnTo>
                <a:lnTo>
                  <a:pt x="21998" y="17989"/>
                </a:lnTo>
                <a:lnTo>
                  <a:pt x="11380" y="17989"/>
                </a:lnTo>
                <a:lnTo>
                  <a:pt x="11380" y="10800"/>
                </a:lnTo>
                <a:lnTo>
                  <a:pt x="9726" y="10800"/>
                </a:lnTo>
                <a:close/>
              </a:path>
              <a:path fill="darkenLess" w="33378" h="21600">
                <a:moveTo>
                  <a:pt x="19266" y="6448"/>
                </a:moveTo>
                <a:lnTo>
                  <a:pt x="19266" y="4707"/>
                </a:lnTo>
                <a:lnTo>
                  <a:pt x="21041" y="4707"/>
                </a:lnTo>
                <a:lnTo>
                  <a:pt x="21041" y="8224"/>
                </a:lnTo>
                <a:close/>
              </a:path>
              <a:path fill="darkenLess" w="33378" h="21600">
                <a:moveTo>
                  <a:pt x="15767" y="14299"/>
                </a:moveTo>
                <a:lnTo>
                  <a:pt x="17612" y="14299"/>
                </a:lnTo>
                <a:lnTo>
                  <a:pt x="17612" y="17989"/>
                </a:lnTo>
                <a:lnTo>
                  <a:pt x="21998" y="17989"/>
                </a:lnTo>
                <a:lnTo>
                  <a:pt x="21998" y="10800"/>
                </a:lnTo>
                <a:lnTo>
                  <a:pt x="11380" y="10800"/>
                </a:lnTo>
                <a:lnTo>
                  <a:pt x="11380" y="17989"/>
                </a:lnTo>
                <a:lnTo>
                  <a:pt x="15767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3"/>
          <p:cNvSpPr/>
          <p:nvPr/>
        </p:nvSpPr>
        <p:spPr>
          <a:xfrm>
            <a:off x="685800" y="21337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" dur="500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id the Nubians from Meroe get from the Rocky Dese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chickens  B: r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: iron ore  D: foxy la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4">
            <a:hlinkClick r:id="rId1" action="ppaction://hlinksldjump"/>
          </p:cNvPr>
          <p:cNvSpPr/>
          <p:nvPr/>
        </p:nvSpPr>
        <p:spPr>
          <a:xfrm>
            <a:off x="731520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3"/>
          <p:cNvSpPr/>
          <p:nvPr/>
        </p:nvSpPr>
        <p:spPr>
          <a:xfrm>
            <a:off x="457200" y="2438280"/>
            <a:ext cx="8229600" cy="27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C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the iron ore deposits benefit the people of Mero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they could make tools and weap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: they made ores for their can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: it didn’t benefit them  D: they made h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4">
            <a:hlinkClick r:id="rId1" action="ppaction://hlinksldjump"/>
          </p:cNvPr>
          <p:cNvSpPr/>
          <p:nvPr/>
        </p:nvSpPr>
        <p:spPr>
          <a:xfrm>
            <a:off x="716292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6"/>
          <p:cNvSpPr/>
          <p:nvPr/>
        </p:nvSpPr>
        <p:spPr>
          <a:xfrm>
            <a:off x="1066680" y="60948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7"/>
          <p:cNvSpPr/>
          <p:nvPr/>
        </p:nvSpPr>
        <p:spPr>
          <a:xfrm>
            <a:off x="838080" y="2195640"/>
            <a:ext cx="746784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roe people could control trade routes to ____________ with their weap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goes in the blan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the local Walmart           B: the Red S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: the Mediterranean Sea  D: their ho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4">
            <a:hlinkClick r:id="rId1" action="ppaction://hlinksldjump"/>
          </p:cNvPr>
          <p:cNvSpPr/>
          <p:nvPr/>
        </p:nvSpPr>
        <p:spPr>
          <a:xfrm>
            <a:off x="7238880" y="380880"/>
            <a:ext cx="1295640" cy="838440"/>
          </a:xfrm>
          <a:custGeom>
            <a:avLst/>
            <a:gdLst>
              <a:gd name="textAreaLeft" fmla="*/ 54360 w 1295640"/>
              <a:gd name="textAreaRight" fmla="*/ 1241280 w 129564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73" h="21600">
                <a:moveTo>
                  <a:pt x="0" y="0"/>
                </a:moveTo>
                <a:lnTo>
                  <a:pt x="33373" y="0"/>
                </a:lnTo>
                <a:lnTo>
                  <a:pt x="33373" y="21600"/>
                </a:lnTo>
                <a:lnTo>
                  <a:pt x="0" y="21600"/>
                </a:lnTo>
                <a:close/>
              </a:path>
              <a:path fill="lightenLess" w="33373" h="21600">
                <a:moveTo>
                  <a:pt x="0" y="0"/>
                </a:moveTo>
                <a:lnTo>
                  <a:pt x="33373" y="0"/>
                </a:lnTo>
                <a:lnTo>
                  <a:pt x="31973" y="1400"/>
                </a:lnTo>
                <a:lnTo>
                  <a:pt x="1400" y="1400"/>
                </a:lnTo>
                <a:close/>
              </a:path>
              <a:path fill="darken" w="33373" h="21600">
                <a:moveTo>
                  <a:pt x="33373" y="0"/>
                </a:moveTo>
                <a:lnTo>
                  <a:pt x="33373" y="21600"/>
                </a:lnTo>
                <a:lnTo>
                  <a:pt x="31973" y="20200"/>
                </a:lnTo>
                <a:lnTo>
                  <a:pt x="31973" y="1400"/>
                </a:lnTo>
                <a:close/>
              </a:path>
              <a:path fill="darkenLess" w="33373" h="21600">
                <a:moveTo>
                  <a:pt x="33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73" y="20200"/>
                </a:lnTo>
                <a:close/>
              </a:path>
              <a:path fill="lighten" w="33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73" h="21600">
                <a:moveTo>
                  <a:pt x="16687" y="3837"/>
                </a:moveTo>
                <a:lnTo>
                  <a:pt x="19263" y="6448"/>
                </a:lnTo>
                <a:lnTo>
                  <a:pt x="19263" y="4707"/>
                </a:lnTo>
                <a:lnTo>
                  <a:pt x="21039" y="4707"/>
                </a:lnTo>
                <a:lnTo>
                  <a:pt x="21039" y="8224"/>
                </a:lnTo>
                <a:lnTo>
                  <a:pt x="23650" y="10800"/>
                </a:lnTo>
                <a:lnTo>
                  <a:pt x="21996" y="10800"/>
                </a:lnTo>
                <a:lnTo>
                  <a:pt x="21996" y="17989"/>
                </a:lnTo>
                <a:lnTo>
                  <a:pt x="11377" y="17989"/>
                </a:lnTo>
                <a:lnTo>
                  <a:pt x="11377" y="10800"/>
                </a:lnTo>
                <a:lnTo>
                  <a:pt x="9724" y="10800"/>
                </a:lnTo>
                <a:close/>
              </a:path>
              <a:path fill="darkenLess" w="33373" h="21600">
                <a:moveTo>
                  <a:pt x="19263" y="6448"/>
                </a:moveTo>
                <a:lnTo>
                  <a:pt x="19263" y="4707"/>
                </a:lnTo>
                <a:lnTo>
                  <a:pt x="21039" y="4707"/>
                </a:lnTo>
                <a:lnTo>
                  <a:pt x="21039" y="8224"/>
                </a:lnTo>
                <a:close/>
              </a:path>
              <a:path fill="darkenLess" w="33373" h="21600">
                <a:moveTo>
                  <a:pt x="15764" y="14299"/>
                </a:moveTo>
                <a:lnTo>
                  <a:pt x="17609" y="14299"/>
                </a:lnTo>
                <a:lnTo>
                  <a:pt x="17609" y="17989"/>
                </a:lnTo>
                <a:lnTo>
                  <a:pt x="21996" y="17989"/>
                </a:lnTo>
                <a:lnTo>
                  <a:pt x="21996" y="10800"/>
                </a:lnTo>
                <a:lnTo>
                  <a:pt x="11377" y="10800"/>
                </a:lnTo>
                <a:lnTo>
                  <a:pt x="11377" y="17989"/>
                </a:lnTo>
                <a:lnTo>
                  <a:pt x="15764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838080" y="2195640"/>
            <a:ext cx="746784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B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" dur="500"/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8" dur="500"/>
                                        <p:tgtEl>
                                          <p:spTgt spid="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/>
                                        <p:tgtEl>
                                          <p:spTgt spid="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bian styles of pottery, jewelry, and furniture still exist in present-day 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goes in the blan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Canada    B: Sud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: Italy          D: In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4">
            <a:hlinkClick r:id="rId1" action="ppaction://hlinksldjump"/>
          </p:cNvPr>
          <p:cNvSpPr/>
          <p:nvPr/>
        </p:nvSpPr>
        <p:spPr>
          <a:xfrm>
            <a:off x="731520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6"/>
          <p:cNvSpPr/>
          <p:nvPr/>
        </p:nvSpPr>
        <p:spPr>
          <a:xfrm>
            <a:off x="838080" y="2271960"/>
            <a:ext cx="746784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B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4" dur="5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8" dur="500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2" dur="500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6" dur="500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pata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4">
            <a:hlinkClick r:id="rId2" action="ppaction://hlinksldjump"/>
          </p:cNvPr>
          <p:cNvSpPr/>
          <p:nvPr/>
        </p:nvSpPr>
        <p:spPr>
          <a:xfrm>
            <a:off x="716292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cc00cc"/>
              </a:gs>
              <a:gs pos="100000">
                <a:srgbClr val="66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7"/>
          <p:cNvSpPr/>
          <p:nvPr/>
        </p:nvSpPr>
        <p:spPr>
          <a:xfrm>
            <a:off x="228600" y="1676520"/>
            <a:ext cx="8534520" cy="54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country did the Napatan kings ru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Egypt B: The United States of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: Africa D: The Land of Gwyneth Pache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8"/>
          <p:cNvSpPr/>
          <p:nvPr/>
        </p:nvSpPr>
        <p:spPr>
          <a:xfrm>
            <a:off x="838080" y="2544120"/>
            <a:ext cx="7467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2" dur="5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6" dur="500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0" dur="500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pata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e or Fal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eople of Napata did not follow Egyptian tradi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4">
            <a:hlinkClick r:id="rId2" action="ppaction://hlinksldjump"/>
          </p:cNvPr>
          <p:cNvSpPr/>
          <p:nvPr/>
        </p:nvSpPr>
        <p:spPr>
          <a:xfrm>
            <a:off x="716292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cc00cc"/>
              </a:gs>
              <a:gs pos="100000">
                <a:srgbClr val="66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3"/>
          <p:cNvSpPr/>
          <p:nvPr/>
        </p:nvSpPr>
        <p:spPr>
          <a:xfrm>
            <a:off x="380880" y="21337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Fals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6" dur="5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0" dur="500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17:27:33Z</dcterms:created>
  <dc:creator>Default</dc:creator>
  <dc:description/>
  <dc:language>en-US</dc:language>
  <cp:lastModifiedBy>Mimi pacheco</cp:lastModifiedBy>
  <dcterms:modified xsi:type="dcterms:W3CDTF">2009-01-17T17:59:50Z</dcterms:modified>
  <cp:revision>20</cp:revision>
  <dc:subject/>
  <dc:title>Slide 1</dc:title>
</cp:coreProperties>
</file>